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6D9-A3AD-4392-BA7F-6C723A38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AF5-BA7B-4ACD-9B7E-4AFF2F3D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8DC-4B9A-4B7D-AB1D-6597D494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9A8-0DD5-4FAA-83AC-CF68B29A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D52-D7BE-4869-AB30-68552539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072-4504-490F-B037-128C64EE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AAA-1377-49DD-8C79-064F73EC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311F-53F1-45F9-8C38-35DFBDDF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5B5-6458-4430-BFD8-084DD29D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BC1-F367-4849-9236-4C1E6DCA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42B-65B0-4750-8290-5FD930AD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29E-F7DB-4664-8E47-52434D53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E82E-2FDE-4649-9546-DB52F4EAD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overing the Role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drick Griffith discovered that a factor in heat-killed bacteria, disease-causing bacteria can “transform” harmless bacteria into ones that cause disease. (ge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wald Avery  determines that genes are composed of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sey and Chase: concluded that the genetic material of the bacteriaphage was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ove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win Chargaff: Chargaff’s Rule A=T G=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salind Franklin: using x-ray diffraction studied the DNA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son and Crick: Developed the double helix model of D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s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32120" y="2075040"/>
            <a:ext cx="5236920" cy="341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94920" y="16416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12640" y="14889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imid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6320" y="23241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en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4240" y="23241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an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09520" y="24004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to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04440" y="24004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y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75800" y="514656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sph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66360" y="529920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oxyribose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040" y="2631960"/>
            <a:ext cx="16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otide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sph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ing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ication: the process by which DNA makes a copy of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NA molecule separates into two strands, then produces two new complimentary strands following the rules of base pairing. Each strand serves as a template for the new str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Replication Occ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7880" y="1806480"/>
            <a:ext cx="8428320" cy="3656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6280" y="445788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2160" y="438156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86240" y="438156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38840" y="36226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2000" y="327672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NA Polyma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62360" y="186696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NA polyme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53240" y="30891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43400" y="529596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09000" y="537228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st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523880"/>
            <a:ext cx="7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70920" y="156204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st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Replication Occ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A polymerase unzips the DNA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nucleotides bind to th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A ligase joins the nucleotides to the temp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A polymerase is also used as a proofreader, to look for mistak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ication is termed semi-conservative since each copy has a parent strand attached to new str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7:01:30Z</dcterms:created>
  <dc:creator>Perquimans County Schools</dc:creator>
  <dc:description/>
  <dc:language>en-US</dc:language>
  <cp:lastModifiedBy>Perquimans County Schools</cp:lastModifiedBy>
  <dcterms:modified xsi:type="dcterms:W3CDTF">2005-03-09T17:52:26Z</dcterms:modified>
  <cp:revision>5</cp:revision>
  <dc:subject/>
  <dc:title>DNA</dc:title>
</cp:coreProperties>
</file>